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AB9-7638-4C20-B216-B596D14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406-AA8F-4F1C-A7DD-3381C42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BF4-8629-47FE-B4BE-E2A83843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26-5F20-40A5-9B70-1B89BF5D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4D6-EBAB-47DB-87D1-38A22961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4816-E2FC-43CA-8AF5-2A7E57E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5264-82CF-452A-8EBB-BC0E111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8A7B-904C-41E8-A986-E6C6944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EC88-28FC-48CC-A67C-5C3F35D3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F7A3-284B-46F0-89D7-E0CB048B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9AB-A665-4200-BA91-050747E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A5E-10D8-4514-ADBD-39BC8D4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4D2-10C0-4D6D-AAC3-C964DD1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60DA-920C-4DEA-A29B-CD31D2F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745-6876-40FA-BFE6-9B3DCA9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BFA-3AD2-4F46-AAA0-8B94188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668-32EF-4EA0-B1DF-0533038C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DDF-8541-4825-8996-1F3C576E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AC8-9362-4FB0-A9CC-A908B737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384-4398-4FBF-8C16-79F1B877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2C1-1586-4B6E-A3B2-893768F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1B0-4EDF-47A1-9B33-5B99130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496-8EFA-4151-9683-3C21D68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1F1-426B-44DB-A6E8-2F43B35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5EA-949F-4313-A814-790EDC112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AFC-6628-4F0E-BAAE-E84C0C2BF6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WTb_siWn1LHDMAOzeJzbkF;_ylu=X3oDMTBpY2Y5NXNiBHBvcwM2BHNlYwNzcgR2dGlkAw--/SIG=1gsahb05p/EXP=1266592674/**http%3A//images.search.yahoo.com/images/view%3Fback=http%253A%252F%252Fimages.search.yahoo.com%252Fsearch%252Fimages%253Fp%253Dsugar%2526ei%253Dutf-8%2526fr%253Dyfp-t-701%26w=380%26h=500%26imgurl=farm1.static.flickr.com%252F25%252F56474902_cbfa9928ed.jpg%26rurl=http%253A%252F%252Fwww.flickr.com%252Fphotos%252Fhugo_provoste%252F56474902%252F%26size=107k%26name=SUGAR%2Btest%2B%252B%2B1%26p=sugar%26oid=e093e59ebd9eb6d0%26fr2=%26fusr=Hugo%2BProvost...%26no=6%26tt=7657288%26sigr=11kqjkaoa%26sigi=11ifg0esd%26sigb=12ado4drl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rds.yahoo.com/_ylt=A0WTefdcWn1Lf2kA91GJzbkF;_ylu=X3oDMTBpZTByOGFiBHBvcwMyBHNlYwNzcgR2dGlkAw--/SIG=1euij6bmi/EXP=1266592732/**http%3A//images.search.yahoo.com/images/view%3Fback=http%253A%252F%252Fimages.search.yahoo.com%252Fsearch%252Fimages%253Fp%253Dhorses%2526ei%253Dutf-8%2526fr%253Dyfp-t-701%26w=570%26h=400%26imgurl=www.enjoy-the-curlys.com%252FPictures%252FHorses.jpg%26rurl=http%253A%252F%252Fwww.enjoy-the-curlys.com%252FHorses.html%26size=53k%26name=Horses%2Bjpg%26p=horses%26oid=652741f5e6d3426a%26fr2=%26no=2%26tt=10019986%26sigr=11bo8iqro%26sigi=11cmbm7sp%26sigb=12bvpjpdo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rds.yahoo.com/_ylt=A0WTefO_WX1LGkEAK7GJzbkF;_ylu=X3oDMTBpZTByOGFiBHBvcwMyBHNlYwNzcgR2dGlkAw--/SIG=1h076uj9f/EXP=1266592575/**http%3A//images.search.yahoo.com/images/view%3Fback=http%253A%252F%252Fimages.search.yahoo.com%252Fsearch%252Fimages%253Fp%253Dpotatoes%2526ei%253DUTF-8%2526fr%253Dyfp-t-701%2526fr2%253Dtab-web%26w=715%26h=611%26imgurl=www.all-creatures.org%252Frecipes%252Fimages%252Fi-potatoes-wh.jpg%26rurl=http%253A%252F%252Fwww.buzznet.com%252Ftags%252Fireland%252Fjournals%26size=37k%26name=i%2Bpotatoes%2Bwh%2Bjp...%26p=potatoes%26oid=497f534536fcb720%26fr2=tab-web%26no=2%26tt=1379414%26sigr=11chvi3ad%26sigi=11mar2kco%26sigb=12porthq6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rds.yahoo.com/_ylt=A0WTefO_WX1LGkEAMLGJzbkF;_ylu=X3oDMTBpY2Y5NXNiBHBvcwM2BHNlYwNzcgR2dGlkAw--/SIG=1j8ueqi5q/EXP=1266592575/**http%3A//images.search.yahoo.com/images/view%3Fback=http%253A%252F%252Fimages.search.yahoo.com%252Fsearch%252Fimages%253Fp%253Dpotatoes%2526ei%253DUTF-8%2526fr%253Dyfp-t-701%2526fr2%253Dtab-web%26w=510%26h=502%26imgurl=www.jimdirden.com%252Fkerrville_2003%252Fmain-stage%252Fimages%252Fpotatoes_kff03_cd15_0006.jpg%26rurl=http%253A%252F%252Fwww.jimdirden.com%252Fkerrville_2003%252Fmain-stage%252Fpages%252Fpotatoes_kff03_cd15_0006.htm%26size=38k%26name=potatoes%2Bkff03%2Bc...%26p=potatoes%26oid=db080ddf40fe954e%26fr2=tab-web%26no=6%26tt=1379414%26sigr=12ld8squs%26sigi=12fmrnoaj%26sigb=12porthq6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rds.yahoo.com/_ylt=A0WTb_jcW31LKBQAHfOJzbkF;_ylu=X3oDMTBpZTByOGFiBHBvcwMyBHNlYwNzcgR2dGlkAw--/SIG=1hba88d2k/EXP=1266593116/**http%3A//images.search.yahoo.com/images/view%3Fback=http%253A%252F%252Fimages.search.yahoo.com%252Fsearch%252Fimages%253Fp%253Dchocolate%2526sado%253D1%2526ei%253Dutf-8%2526fr%253Dyfp-t-701%2526fr2%253Dsg-gac%26w=280%26h=249%26imgurl=www.victoriana.com%252FRecipes%252Fimages%252Fchocolate-6.jpg%26rurl=http%253A%252F%252Fwww.victoriana.com%252FRecipes%252Fchocolaterecipes.htm%26size=87k%26name=chocolate%2B6%2Bjpg%26p=chocolate%26oid=6d70a3124c66e1c8%26fr2=sg-gac%26no=2%26tt=12593763%26sigr=11meau8qs%26sigi=11hknvoav%26sigb=130vcr4as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rds.yahoo.com/_ylt=A0WTefYcXH1LrjgAjJCJzbkF;_ylu=X3oDMTBpY2Y5NXNiBHBvcwM2BHNlYwNzcgR2dGlkAw--/SIG=1gde7muah/EXP=1266593180/**http%3A//images.search.yahoo.com/images/view%3Fback=http%253A%252F%252Fimages.search.yahoo.com%252Fsearch%252Fimages%253Fp%253Dtobacco%2526sado%253D1%2526ei%253Dutf-8%2526fr%253Dyfp-t-701%2526fr2%253Dsg-gac%26w=191%26h=177%26imgurl=www.smokeandale.com%252Fimages%252Fpipe-tobacco1.jpg%26rurl=https%253A%252F%252Fwww.smokeandale.com%252Findex.php%253FcPath%253D25%26size=14k%26name=Tobacco%26p=tobacco%26oid=62e8731d79f0baea%26fr2=sg-gac%26no=6%26tt=1740997%26sigr=11eivudfb%26sigi=11cjj26fs%26sigb=12ukef5nd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rds.yahoo.com/_ylt=A0WTb_pnXH1L6mkAkauJzbkF;_ylu=X3oDMTBpc2VvdmQ2BHBvcwM3BHNlYwNzcgR2dGlkAw--/SIG=1kmmn7aon/EXP=1266593255/**http%3A//images.search.yahoo.com/images/view%3Fback=http%253A%252F%252Fimages.search.yahoo.com%252Fsearch%252Fimages%253Fp%253Dcanned%252Bpeach%252Bhalves%2526sado%253D1%2526ei%253Dutf-8%2526fr%253Dyfp-t-701%2526fr2%253Dsg-gac%26w=360%26h=360%26imgurl=www.global-b2b-network.com%252Fdirect%252Fdbimage%252F50208301%252FCanned_Yellow_Peach_Halves.jpg%26rurl=http%253A%252F%252Fwww.global-b2b-network.com%252Fb2b%252F48%252F204%252F253333%252Fcanned_yellow_peach_halves.html%26size=10k%26name=Canned%2BYellow%2BPe...%26p=canned%2Bpeach%2Bhalves%26oid=fd16d6bfafa3d7ac%26fr2=sg-gac%26no=7%26tt=56%26sigr=12ji1dtt9%26sigi=12hd6cgp4%26sigb=13am733nv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rds.yahoo.com/_ylt=A0WTbx6cXH1LoigAdFmJzbkF;_ylu=X3oDMTBpY2Y5NXNiBHBvcwM2BHNlYwNzcgR2dGlkAw--/SIG=1fgoip5ne/EXP=1266593308/**http%3A//images.search.yahoo.com/images/view%3Fback=http%253A%252F%252Fimages.search.yahoo.com%252Fsearch%252Fimages%253Fp%253Dcorn%2526ei%253Dutf-8%2526fr%253Dyfp-t-701%26w=200%26h=248%26imgurl=www.swallowtailgardenseeds.com%252Fassets%252Fcorn2.jpg%26rurl=http%253A%252F%252Fwww.swallowtailgardenseeds.com%252Fveggies%252Fsweetcorn.html%26size=17k%26name=corn2%2Bjpg%26p=corn%26oid=7a77fe583e339762%26fr2=%26no=6%26tt=3747263%26sigr=11shrad7f%26sigi=11f2v1hfm%26sigb=129lcgnq9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rds.yahoo.com/_ylt=A9G_bHPYXH1LX3EAmwyJzbkF;_ylu=X3oDMTBpc2VvdmQ2BHBvcwM3BHNlYwNzcgR2dGlkAw--/SIG=1fpc8ahat/EXP=1266593368/**http%3A//images.search.yahoo.com/images/view%3Fback=http%253A%252F%252Fimages.search.yahoo.com%252Fsearch%252Fimages%253Fp%253Dpumpkins%2526ei%253Dutf-8%2526fr%253Dyfp-t-701%26w=800%26h=533%26imgurl=k43.pbase.com%252Fv3%252F18%252F513218%252F1%252F49742425.Pumpkins.jpg%26rurl=http%253A%252F%252Fwww.pbase.com%252Fimage%252F49742425%26size=100k%26name=49742425%2BPumpkin...%26p=pumpkins%26oid=9153f3fa660a15ac%26fr2=%26no=7%26tt=1452490%26sigr=113s5gdbu%26sigi=11igl6vkj%26sigb=12doige7k" TargetMode="External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olumbian Exchang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wth of Capital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avorite Meal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e down your perfect me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etizers, entrees, desser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will come back to this in one minu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6858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685800"/>
            <a:ext cx="2895480" cy="2017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Guess whether the item is from the Old World or the New World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828440"/>
            <a:ext cx="3124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tato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r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cola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bac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ach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r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. Pumpki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. Texas Ribey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200400" y="1905120"/>
            <a:ext cx="548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d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762120"/>
            <a:ext cx="1428840" cy="121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63040" y="685800"/>
            <a:ext cx="138096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Go to full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86600" y="1143000"/>
            <a:ext cx="2057400" cy="181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Go to full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34320" y="129528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Go to full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1680" y="1600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Go to full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192800" y="205740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Go to full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248520" y="3200400"/>
            <a:ext cx="28954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Go to fullsize image"/>
          <p:cNvPicPr/>
          <p:nvPr/>
        </p:nvPicPr>
        <p:blipFill>
          <a:blip r:embed="rId20"/>
          <a:stretch/>
        </p:blipFill>
        <p:spPr>
          <a:xfrm>
            <a:off x="6756480" y="3581280"/>
            <a:ext cx="2387520" cy="243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y Columbian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lobal Transfer of Goods, plants, animals and disease during the colonizing of the Americ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rcantilism sys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conomy based on getting valuable items (sugar, gold, tobacco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onies are created to get raw materia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w material are sent back to mother count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rade…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represents the start of capitalism and imperial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anies seek pure prof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rcantilism leads to the triangle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4_5slave_trade%2520copy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Long Term Impac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Positiv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farming options (potatoes for Ireland’s poor soil or oxen to help natives plow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Die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ins, carbs…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ulation Increase (For Europeans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rease Wealth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business opportuniti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Negativ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endence on single food source (Ire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ced and Volunteer migration (colonization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ave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pid spread of Globe Diseas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1:11:32Z</dcterms:created>
  <dc:creator>Robert Kuenzi</dc:creator>
  <dc:description/>
  <dc:language>en-US</dc:language>
  <cp:lastModifiedBy>School District</cp:lastModifiedBy>
  <dcterms:modified xsi:type="dcterms:W3CDTF">2012-02-28T14:35:01Z</dcterms:modified>
  <cp:revision>9</cp:revision>
  <dc:subject/>
  <dc:title>Columbian Exchange</dc:title>
</cp:coreProperties>
</file>